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BD7-C358-45B5-884E-0B52866F3C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0578-73C0-46A9-83C2-BC91EBE4C591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29D-BF9B-420E-99E9-C76EDD67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DB2-B005-45C6-B386-CEEBF75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910-5074-4F12-A93E-DA2E78C3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953-1FE2-4172-91B7-B0A01963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28B-B692-4B86-9794-0A92313A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87C-DB53-44AC-AF74-F9BF6BB8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888-E040-497F-A891-61317A74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D4BC-7399-4A42-B596-FE48A71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C461-E2FF-4F9E-99EE-14851AF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396E-17DE-4B93-8C71-3CF9A13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456E-917D-4B6C-B404-79A334F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8D8-4BCE-4051-89E3-314C387E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2F2F-CA1B-454A-BDEC-A388FAD9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AA8B-6662-4D82-9127-EF823F0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09C-8BAF-462C-B9DE-BEEFF62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6B84-2C2F-4BEF-868D-95C11093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F20-455E-4316-94EB-B8DFC9E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1403-2F65-4219-A2C3-4F6FBE47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44AE-5D5C-473A-AC51-CB96686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B412-FC19-4831-930C-8F2B817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8171-A4AC-4315-8724-1E8B77A0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615C-19EA-4C66-B566-A90D14C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F44-4628-4A8E-AA9C-19F8B00E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08D5-5D52-4486-A4D5-C9F2853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0B5B-7674-4032-A43F-5D863E7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31EA-FFFB-44A9-94C3-EAB453A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9ED5-BBB1-4014-A7C7-05223B79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EFA8-2FE1-453D-9EDB-15ED160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26F4-35F4-490A-A9CC-65DE12A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025A-8404-4C47-82B4-B6CD879B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447-0E9E-4509-BE21-DDB604F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7FF-D917-451C-9358-05301229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A3C-4F2D-4871-8501-4B63F0A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0D9-B8C0-4692-A920-B01515E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6A0-A8CA-42AC-A2AD-688CA0D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3EC-3A67-4DF2-9642-F0CCE18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1AA2-CAFD-4313-91C8-6258F6A98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F96-FC53-48A1-9009-83CE6102F8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63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5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0B1-BA50-4D3A-BB22-5097AB3FE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384120"/>
            <a:ext cx="8405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71760" y="1383840"/>
            <a:ext cx="7572240" cy="47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7171"/>
                </a:solidFill>
                <a:latin typeface="Arial"/>
              </a:rPr>
              <a:t>Коррупция(от лат. «</a:t>
            </a:r>
            <a:r>
              <a:rPr b="1" lang="en-US" sz="2400" spc="-1" strike="noStrike">
                <a:solidFill>
                  <a:srgbClr val="717171"/>
                </a:solidFill>
                <a:latin typeface="Arial"/>
              </a:rPr>
              <a:t>corruptio</a:t>
            </a:r>
            <a:r>
              <a:rPr b="1" lang="ru-RU" sz="2400" spc="-1" strike="noStrike">
                <a:solidFill>
                  <a:srgbClr val="717171"/>
                </a:solidFill>
                <a:latin typeface="Arial"/>
              </a:rPr>
              <a:t>» - подкуп, порча, упадок; от лат. «</a:t>
            </a:r>
            <a:r>
              <a:rPr b="1" lang="en-US" sz="2400" spc="-1" strike="noStrike">
                <a:solidFill>
                  <a:srgbClr val="717171"/>
                </a:solidFill>
                <a:latin typeface="Arial"/>
              </a:rPr>
              <a:t>corrumpere</a:t>
            </a:r>
            <a:r>
              <a:rPr b="1" lang="ru-RU" sz="2400" spc="-1" strike="noStrike">
                <a:solidFill>
                  <a:srgbClr val="717171"/>
                </a:solidFill>
                <a:latin typeface="Arial"/>
              </a:rPr>
              <a:t>» - растлевать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ррупция- это использование должностным лицом своих властных полномочий и доверенных ему прав в целях личной выгоды, противоречащая законодательству и моральным установкам. Этот термин применяется по отношению к бюрократическому аппарату  и политической эли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kvig"/>
          <p:cNvPicPr/>
          <p:nvPr/>
        </p:nvPicPr>
        <p:blipFill>
          <a:blip r:embed="rId1"/>
          <a:stretch/>
        </p:blipFill>
        <p:spPr>
          <a:xfrm>
            <a:off x="5929200" y="1571760"/>
            <a:ext cx="292896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4" descr=""/>
          <p:cNvPicPr/>
          <p:nvPr/>
        </p:nvPicPr>
        <p:blipFill>
          <a:blip r:embed="rId2"/>
          <a:stretch/>
        </p:blipFill>
        <p:spPr>
          <a:xfrm>
            <a:off x="334800" y="-128520"/>
            <a:ext cx="7693200" cy="841320"/>
          </a:xfrm>
          <a:prstGeom prst="rect">
            <a:avLst/>
          </a:prstGeom>
          <a:ln w="0">
            <a:noFill/>
          </a:ln>
        </p:spPr>
      </p:pic>
      <p:sp>
        <p:nvSpPr>
          <p:cNvPr id="244" name="Скругленный прямоугольник 6"/>
          <p:cNvSpPr/>
          <p:nvPr/>
        </p:nvSpPr>
        <p:spPr>
          <a:xfrm>
            <a:off x="1714680" y="1000080"/>
            <a:ext cx="3929040" cy="2286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огласно российскому законодательству коррупция- это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;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1714680" y="3429000"/>
            <a:ext cx="3929040" cy="29289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 лицами, а также совершение указанных деяний от имени или в интересах юридического лиц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0568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ontent Placeholder 4" descr=""/>
          <p:cNvPicPr/>
          <p:nvPr/>
        </p:nvPicPr>
        <p:blipFill>
          <a:blip r:embed="rId1"/>
          <a:stretch/>
        </p:blipFill>
        <p:spPr>
          <a:xfrm>
            <a:off x="506520" y="1238400"/>
            <a:ext cx="4273560" cy="520524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9"/>
          <p:cNvSpPr/>
          <p:nvPr/>
        </p:nvSpPr>
        <p:spPr>
          <a:xfrm>
            <a:off x="1357200" y="28584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f30d1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9" name="Прямоугольник 12" descr=""/>
          <p:cNvPicPr/>
          <p:nvPr/>
        </p:nvPicPr>
        <p:blipFill>
          <a:blip r:embed="rId2"/>
          <a:stretch/>
        </p:blipFill>
        <p:spPr>
          <a:xfrm>
            <a:off x="512640" y="92160"/>
            <a:ext cx="9253800" cy="1852560"/>
          </a:xfrm>
          <a:prstGeom prst="rect">
            <a:avLst/>
          </a:prstGeom>
          <a:ln w="0">
            <a:noFill/>
          </a:ln>
        </p:spPr>
      </p:pic>
      <p:sp>
        <p:nvSpPr>
          <p:cNvPr id="250" name="Скругленный прямоугольник 18"/>
          <p:cNvSpPr/>
          <p:nvPr/>
        </p:nvSpPr>
        <p:spPr>
          <a:xfrm>
            <a:off x="4929120" y="1500120"/>
            <a:ext cx="4214880" cy="15717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законное распределение и перераспределение общественных ресурсов и фондов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Скругленный прямоугольник 21"/>
          <p:cNvSpPr/>
          <p:nvPr/>
        </p:nvSpPr>
        <p:spPr>
          <a:xfrm>
            <a:off x="4857840" y="3286080"/>
            <a:ext cx="4286160" cy="3571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здоимство -получение в нарушение установленного законом порядка лицом, состоявшим на государственной или общественной службе, каких-либо преимуществ за совершение законного действи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357200" y="-360"/>
            <a:ext cx="7786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Уровень распространения коррупционных отношений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верхушечна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охватывает политиков, высшее и среднее чиновничество и сопряжена с принятием решений, имеющих особое значение (нормы законов, госзаказы, приговоры судов высших инстанций, изменение форм собственности и т.п.)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низова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распространена на среднем и низшем уровнях и связана с постоянным, рутинным взаимодействием чиновников и граждан (штрафы, регистрации, услуги в сфере здравоохранения, жилья, социального обеспечения и т.п.))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Глубина поражения правосознания субъектов коррупции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«светлая» (коррупция «по правилам»)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, т.е. коррупционное поведение должностных лиц не сопря­женное с нарушением обязанностей по службе, которое зачастую прояв­ляется в виде взятки-благодарности за оказанную услугу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«серая»,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т.е. коррупционное поведение, связанное с совершением дисциплинарных и административных правонарушений по службе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«черная» (криминальная коррупция),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т.е.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ррупция, сопряжен­ная с совершением служебных преступлений или связан­ная с соучастием в организованной преступной деятельности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Степень активности поведения субъектов коррупционной деятельности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«активная коррупция»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подкуп со сто­роны заинтересованного лица, либо вымогательство незаконного вознаграждения в связи со своей профессиональной деятельностью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«пассивная коррупция»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получе­ние незаконного вознаграждения за правомерное или общественно полезное поведение по службе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корруп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907920"/>
            <a:ext cx="8039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епень </a:t>
            </a: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централизации коррупционных отношений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децентрализованная коррупци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каждый коррупционер действует по собственной инициативе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централизованная коррупция: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«снизу вверх»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средства, полученные от коррупционных сделок, собираются нижестоящими чиновниками и после распределяются между ними и вышестоящими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br>
              <a:rPr sz="1600"/>
            </a:b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     - «сверху вниз»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взятки, регулярно собираемые высшими чиновниками, частично передаются их подчиненным) 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Уровень общественных отношений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государственна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бюрократическая коррупция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коммерческая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(коррупция в частном секторе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политическа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коррупция политических деятелей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Степень регулярности коррупционных связей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эпизодическая коррупци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(иногда, по какой-либо причине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систематическая (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нституциональная) коррупция;</a:t>
            </a: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Ветвь власти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административная коррупция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(коррупция в исполнительных (правительственных и муниципальных) органах власти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парламентская коррупци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коррупция в законодательных (представительных) органах государственной власти)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судебная коррупци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коррупция в судебных органах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285920" y="1357200"/>
            <a:ext cx="7858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00"/>
                </a:solidFill>
                <a:uFillTx/>
                <a:latin typeface="Arial"/>
              </a:rPr>
              <a:t>Характер воздействия на право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коррупционные правонарушения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(любые общественно вредные виновные деяния, противоречащие требованиям правовых норм позитивного права, вне зависимости от сферы регулирования ими общественных отношений (уголовных, административных, гражданских и др.)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- злоупотребления публичным статусом не связаны с нарушением предписаний юридических норм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(Не обладая всей совокупностью признаков правонарушения, они, тем не менее, по своему воздействию  на догмы и содержание позитивного права, нормы и принципы морали также имеют негативный характер, так как наносят вред общественным интересам. К ним можно отнести:  лоббизм,  протекционизм,  непотизм,  взносы на политические цели, предоставление конфиденциальной информации,  традиции перехода государственных чиновников на руководящие должности в частные фирмы и т.д.)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7:18:03Z</dcterms:created>
  <dc:creator>Зерносовхозская СОШ.11класс.</dc:creator>
  <dc:description>Коррупция</dc:description>
  <cp:keywords>Коррупция</cp:keywords>
  <dc:language>en-US</dc:language>
  <cp:lastModifiedBy>Введенский</cp:lastModifiedBy>
  <dcterms:modified xsi:type="dcterms:W3CDTF">2018-11-13T10:34:32Z</dcterms:modified>
  <cp:revision>4</cp:revision>
  <dc:subject>Коррупция</dc:subject>
  <dc:title>Корруп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